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0D86-FEB3-4E4A-93A7-3547EFD60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E930-A815-45EB-A7F1-04DB0387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5AC2-AA16-48EC-A79A-626C0A696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D15C-4868-4BD5-B7F9-2B78F5ED6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14DD-2DC5-4DCD-80D9-A1B2855B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EDEC-9DB3-4E21-8C1D-E8102D4C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0F4F-0D26-41EF-AC71-8415F81B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3170-7D6A-43A7-B9A2-FBC29238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70B9-D6AD-46A2-8238-85FC7A8E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3580-3667-4025-B39A-661ACBF9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D97E-7E7E-400A-8F18-9D8F17B8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D271-9A60-4D1C-B299-12EDE43D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5C1B-7138-47FF-B33C-7BBEDA2A4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35272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22:16:47Z</dcterms:created>
  <dc:creator>ashlyn.muir</dc:creator>
  <dc:description/>
  <dc:language>en-US</dc:language>
  <cp:lastModifiedBy>ashlyn.muir</cp:lastModifiedBy>
  <dcterms:modified xsi:type="dcterms:W3CDTF">2010-03-08T22:17:01Z</dcterms:modified>
  <cp:revision>1</cp:revision>
  <dc:subject/>
  <dc:title>Slide 1</dc:title>
</cp:coreProperties>
</file>