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3607-CAF8-4CEB-8EAD-C73D32106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D506-02C0-4EED-849C-5F1C1F850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A387-3C20-4826-9125-43FCCB045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F441-9666-472F-B64C-6A49E8C8E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71F2-1F8E-4436-B830-5BA727FC1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B327-8347-4762-9E19-36FCD4862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9D4B-3757-4971-8A64-4FFE311E0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12A1-7172-4EB0-95C2-8C4D90E90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54C1-9FAA-4410-A7C1-7626FCA24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4D0C-0955-4381-BC1D-D649436A5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3761-EFFE-407C-B201-FEE09CEA3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B773-E16B-4BF0-965B-048C438FB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9B855-481F-421B-A7A9-16DFF962B9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352728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8T22:16:47Z</dcterms:created>
  <dc:creator>ashlyn.muir</dc:creator>
  <dc:description/>
  <dc:language>en-US</dc:language>
  <cp:lastModifiedBy>ashlyn.muir</cp:lastModifiedBy>
  <dcterms:modified xsi:type="dcterms:W3CDTF">2010-03-08T22:17:01Z</dcterms:modified>
  <cp:revision>1</cp:revision>
  <dc:subject/>
  <dc:title>Slide 1</dc:title>
</cp:coreProperties>
</file>