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14F-4B18-44F3-920B-16E41348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64E-ECA5-4BA3-B506-E68D3C4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BE9-E646-4A05-B0F7-B32FE985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ED9-83AC-4C0E-8F68-8C39E763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7FC-FFC6-45F0-9601-AF2DF767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BE2-8379-4049-87BF-B5358A9E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965-CF1B-425F-A1D9-5509CD38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AED-5BFD-4214-BD98-C6BCF02F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494-3783-4E26-8CF0-C74F5DD7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B5F-986B-40E0-82E6-129AD5DC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9EB-8F5E-4EED-B7F8-20705DF6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F86-5F43-458E-B9B1-95AE22D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9DA-DDD8-4CFA-A8CB-9141D9953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5272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2:16:47Z</dcterms:created>
  <dc:creator>ashlyn.muir</dc:creator>
  <dc:description/>
  <dc:language>en-US</dc:language>
  <cp:lastModifiedBy>ashlyn.muir</cp:lastModifiedBy>
  <dcterms:modified xsi:type="dcterms:W3CDTF">2010-03-08T22:17:01Z</dcterms:modified>
  <cp:revision>1</cp:revision>
  <dc:subject/>
  <dc:title>Slide 1</dc:title>
</cp:coreProperties>
</file>