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096-AC15-4520-AE3F-051D38AC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AB8-62AF-4E26-85B0-986E3A5A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EF5-EE33-4947-A5F6-8A1A8159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FA6-23E7-465C-A7F5-C981CB20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74A-B2A7-4CB0-836F-8EEBD934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E7E-CD83-442F-BFA7-490B2FB3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1C5-B44B-4EDA-B888-41F0BA43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378-CBC7-4620-8076-DDF4DF48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2AA-AF0A-42A0-B63C-8413F52E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9FDE-C353-46F8-8F95-9F55CDCE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38E-05BA-49FB-B734-27DAFBBB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9E2-7E86-49CF-8F22-19837A8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D79F-D027-40E2-BA6B-526CD542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5272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2:16:47Z</dcterms:created>
  <dc:creator>ashlyn.muir</dc:creator>
  <dc:description/>
  <dc:language>en-US</dc:language>
  <cp:lastModifiedBy>ashlyn.muir</cp:lastModifiedBy>
  <dcterms:modified xsi:type="dcterms:W3CDTF">2010-03-08T22:17:01Z</dcterms:modified>
  <cp:revision>1</cp:revision>
  <dc:subject/>
  <dc:title>Slide 1</dc:title>
</cp:coreProperties>
</file>